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81A-1FCD-4C02-8755-025DE052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2ED-4B28-471F-BEFB-E9B6A689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548-FFD6-447B-9FC2-49EC84C3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2C6-E655-4B57-AD3D-0D272FBD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80A27-8265-4D06-9F6E-6A726736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FA6CE-ED30-4526-8A6C-8712ABFA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B82CE-FB92-4302-958B-EE3D845E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E031C-9542-4418-AF7E-A2D391F4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A8EB6-F475-4A6C-B868-8F3F5510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27A06-ED1A-44B0-A638-F4D902AF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544B4-3A8C-49F9-A2BE-2C00170C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D64-E21A-4E74-BF64-A25B68A3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E4DE6-D665-4DF6-9F47-4C65F879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0BD2B-5668-4B0C-A95E-16BA082A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AD22C-E215-4177-BF77-64666FE5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965D7-3820-4C45-AE28-08AD9A50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3919D-5C5F-409F-8D12-F1F7A80E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9A7-A3C5-4C44-B8CB-DE1D34C0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794-B55D-4346-A638-C19DB055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7E9-4A49-4CA3-88E6-6384FE1C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C36-D625-44D9-B2D3-D0552B2F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66D-0713-4E44-BE8C-0BC7CBA9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C91-A3D5-4B85-A864-E68ABDC1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8AA-483A-441B-905D-2C6B795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8576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AC76-86AA-4138-95C6-E2CA35EBC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1190-5AC6-43F9-874F-2379F23456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ir, We Would See Jesus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6:1-28; Luke 9: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. 9:35 - 11:1; 14: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64-6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A5C04-3F08-4709-8714-B8E2CF56BAA9}" type="slidenum">
              <a:t>1</a:t>
            </a:fld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Jesus Rejected At Nazareth</a:t>
            </a:r>
            <a:br>
              <a:rPr sz="24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k. 6:1-6; Matt. 13:54-58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turned home - taught on the Sabb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questioned His wisdom and mighty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ll, His lineage was common - they knew his parents and rel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: “A prophet is not without honor except in his own country and in his own hous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left because of their unbel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5E5-06FB-4F56-A83C-1021CFB72DF8}" type="slidenum">
              <a:t>2</a:t>
            </a:fld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e Compassion Of Jesus</a:t>
            </a:r>
            <a:br>
              <a:rPr sz="32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tt. 9:35-38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ent to the villages and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aught in the synago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eached the gospel of the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ealed the s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3FE-700B-4604-9BB0-F110A9D54F8D}" type="slidenum">
              <a:t>3</a:t>
            </a:fld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e Compassion Of Jesus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tt. 9:35-38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ad compassion on the multitu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knew they were lost like sheep with no shephe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old the disciples - the harvest was plentiful, but few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told to pray to the Lord of harvest to send forth labo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2D7-630C-454F-B8E7-2BB9DB638E19}" type="slidenum">
              <a:t>4</a:t>
            </a:fld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Sending Out The Twelve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k. 6:7-13; Luke 9:1-6; Matt. 10:1 - 11: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ends the 12 apostles on limited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o the Jews at this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gave them power and author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st out dem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re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ach the kingdom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ach repen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090-62C6-4970-ABA0-6ED8A4B2FEBC}" type="slidenum">
              <a:t>5</a:t>
            </a:fld>
          </a:p>
        </p:txBody>
      </p:sp>
    </p:spTree>
  </p:cSld>
  <p:transition>
    <p:strips dir="l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Sending Out The Twelve</a:t>
            </a:r>
            <a:br>
              <a:rPr sz="32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k. 6:7-13; Luke 9:1-6; Matt. 10:1 - 11:1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gave special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nothing for the journey, excep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b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b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ndals you have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lothing you have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stay where you are not welco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DCF-B8B9-4455-9F16-B4417EDA2D74}" type="slidenum">
              <a:t>6</a:t>
            </a:fld>
          </a:p>
        </p:txBody>
      </p:sp>
    </p:spTree>
  </p:cSld>
  <p:transition>
    <p:strips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Persecutions Are Coming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tt. 9:16-42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ords go beyond limited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arned of trouble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id the Spirit will guide them in what to 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aught the importance of fearing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brought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st of disciple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409-60E1-481E-A57C-03BD48FFC7BD}" type="slidenum">
              <a:t>7</a:t>
            </a:fld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John The Baptist Beheaded</a:t>
            </a:r>
            <a:br>
              <a:rPr sz="32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14-29; Matt. 14:1-12; Luke 9:7-9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had heard of Jesus and His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thought John had risen from the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thought Elijah or another prophet had risen from the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sought to see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275-7F39-405B-A7C4-D668293D14D8}" type="slidenum">
              <a:t>8</a:t>
            </a:fld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John The Baptist Beheaded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Mark 6:14-29; Matt. 14:1-12; Luke 9:7-9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Antipas married unlawfu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censored Herod for his adulterous 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had put John in p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 made an oath that cost John his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odias hated John and took advantage of an opportunity to have him behe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34A-0640-42D5-B3B4-44486A402BFF}" type="slidenum">
              <a:t>9</a:t>
            </a:fld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3:12:27Z</dcterms:created>
  <dc:creator>robert marshall</dc:creator>
  <dc:description/>
  <dc:language>en-US</dc:language>
  <cp:lastModifiedBy>Frank D Vines</cp:lastModifiedBy>
  <dcterms:modified xsi:type="dcterms:W3CDTF">2006-09-05T00:52:36Z</dcterms:modified>
  <cp:revision>10</cp:revision>
  <dc:subject/>
  <dc:title>Sir, We Would See Jes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08051195</vt:r8>
  </property>
  <property fmtid="{D5CDD505-2E9C-101B-9397-08002B2CF9AE}" pid="3" name="_AuthorEmail">
    <vt:lpwstr>robertdmarshall@bellsouth.net</vt:lpwstr>
  </property>
  <property fmtid="{D5CDD505-2E9C-101B-9397-08002B2CF9AE}" pid="4" name="_AuthorEmailDisplayName">
    <vt:lpwstr>Robert Marshall</vt:lpwstr>
  </property>
  <property fmtid="{D5CDD505-2E9C-101B-9397-08002B2CF9AE}" pid="5" name="_EmailSubject">
    <vt:lpwstr>Q9,Lesson17.ppt</vt:lpwstr>
  </property>
  <property fmtid="{D5CDD505-2E9C-101B-9397-08002B2CF9AE}" pid="6" name="_ReviewingToolsShownOnce">
    <vt:lpwstr/>
  </property>
</Properties>
</file>